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0780-C5E5-4496-B124-516782F6F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BC0F-5993-4F5D-8695-7D4C38A6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1463-3C54-44C5-9D45-F7AF8363E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7007-672E-4DE7-9052-DB14C030A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DD52-4550-4D72-ACAC-A54039265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3FF5-44A6-41C5-B335-8DB8487B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A506-4E31-4A5A-9500-F251EF45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7AC4-1416-4C76-9081-A35769FC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48D5-527C-4A37-8F4E-702FC156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1FBC-D518-40AE-AFCC-0EFB2AC7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AFFC-4140-4B83-A10D-B4947A79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311A-45C4-4BD6-AD33-70679D91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158F-D89F-4718-980F-5767709F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766E-7FD4-4230-A285-5180CE6D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E2A2-4D56-4906-B73D-8BDE3F9C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7218-79DE-4DE5-82C6-52D18791B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D672-A9B1-4601-AAD2-91F7AC51B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50CB38-9785-4715-9F21-0D30C9FD4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848566-D3BF-4E69-AE98-DC455C22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A6A5F5-EDAF-4923-9A1F-00569782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8ACBE9-52AE-459D-B9E6-D77AFE28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99800B-E0A4-402B-9C88-9141FB3E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B5DD-A43D-4051-9153-EBDB704C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3913CB-C444-4E63-BF51-637C33A6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2943E7-59D9-4D43-BC6B-202772AC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91B9FC-A2E4-4D37-BF43-1CEFEBDC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AA0A25-1C23-48C9-8FEA-C2C80305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31EBDA-109F-4123-B904-396CEFE3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8FBB97-D321-48DD-93BC-F042A48B6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551A96-3724-4B3B-8682-AC3096D3F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488D30-1920-45A0-AF09-25B4362E3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564505-5923-4583-A5AC-37A1EB55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EFE957-EB9E-46C3-86CE-B509E296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67FC-C22A-4AD8-A2FE-1432F078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915B33-D4CF-488E-A05F-EC2DCD74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46F477-0595-4307-8FFF-E918B741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9B16D5-5F07-4EB7-90EF-C26F39D9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04CE87-3774-4B42-AE2E-69B7D394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B8ED05-BA8F-4A0C-8E55-7F775590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EA737C-24B8-4F40-8C72-8292BBF8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716AEF-4820-404E-B5FF-8FE29A1D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76B026-D268-484B-93FF-4CCAA7765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AE9199-577C-47FF-B2B0-D5BC68CF9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44F7AB-03DB-4FCE-A52F-AC3C8BD6A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ADAF-E2D1-4277-AA2C-A38779D3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C637B1-6AED-4126-8C90-F3073117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CDBC4B-897A-4D11-8CD1-CF37AAFB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B138AC-11CC-4938-B26A-8BA8813A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B68FF1-1545-495D-8087-09FA266F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256E25-5274-4506-B1B1-D6058560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4465A4-C798-4209-8E1F-B7512DC9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8FB59F-CD27-4646-A2D3-2A241BCE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ECCA8D-7704-4BA7-AA0C-B5AD4C8F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B16E74-FC69-4216-8AAE-534A949F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39AAAC-69D0-437C-BC3E-88E65C4F9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30EE-ED57-4719-970C-8C3D16BF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E4FDB6-CD76-4C5F-AD82-D793CE22C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EDD11-9119-4453-A9C5-08D990953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0596D-F35A-4177-BFBB-1C274973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3E863-46E7-4DE6-8CD4-471F2CDC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8EA73-4080-478A-B77F-FE13DF79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5FF73-98F4-44F3-9C93-A167F298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0E046-1CA3-45EE-933C-8233B71A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5E517-CF92-480C-A5A8-6464B69A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7BADA-6EBB-49B6-A9D3-6F4333BE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E7039-7611-4AB4-92E8-1994F898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28AE-8CA0-49EF-9F57-130D587F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DAEAB-884F-4E1F-83B7-31045FDD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CD426-53E5-4D57-8F4F-705BC69F1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1816D-F962-4284-BBD1-60C706862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DD41D2-9ECA-4BF0-A8C2-5309B30C1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EAF9BE-4E57-4DDF-B42E-BF4991DF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09B222-E7F3-44F0-AC53-CEEC0547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E21D53-C683-42BB-80A7-20BA2DF1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F963E5-90D8-4632-8D22-CE78B036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9D393C-255B-4B63-A795-66E0B926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C1A573-49D4-44F9-8EDE-37161E2B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B308-CA18-446C-8983-DDABAD20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1AB53D-AD29-4EE3-B1DC-5DF49DC2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7EB73A-BF38-43BC-A5A7-C5B256BE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459426-5318-4DAB-800F-87D773F3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A49663-D9B5-470B-9CE7-49BA01FE0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6F62E3-9CE0-4053-8528-D65B873E7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C1514-BAFC-4FF1-BA2C-A4D6C91D3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B4F70-3652-4B42-A7AC-745551A6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1E8FB-D268-484F-85E4-08C8204A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91CEC-9A5C-4AF9-ADCD-C66D78CC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04EA6-0879-4FB8-84E0-E0E6CB7C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C6F6-C353-4D2C-BAC2-CF5D6EE1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AE1DB-8018-40D1-9D45-4AEA2FC6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A9C82-B605-4A1B-B5EF-CBF95DF9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808EC-62A7-48BC-9AE7-2D666625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FA4CB-483F-40DC-9B8B-39D69A8F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0D604-BA42-4355-A64D-048A2E27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B2A00-EC65-4100-9A70-15F8B32C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78A58-90A5-41A9-A52F-BAAEF6C5E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3CB5-0C72-4800-8810-78EDC9198F29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eece1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BEFD-1A44-474D-90A9-37ECE57D82DE}" type="slidenum">
              <a:rPr b="1" lang="ru-RU" sz="1400" spc="-1" strike="noStrike">
                <a:solidFill>
                  <a:srgbClr val="eeece1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69AA-74C3-4776-8AFE-17CD2E656A6D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7383-0E1A-4102-A788-4FFD87A7E576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42EE-8971-476C-A30A-F48F25A4532A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8185-35CB-426A-89EF-E5B4F1D4A1DB}" type="slidenum">
              <a:rPr b="1" lang="ru-RU" sz="14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3BA6-3CB9-4580-96E9-7BB9AC0424F9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0D9A-2B7A-4D83-911E-F61F682F3275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7640" y="549360"/>
            <a:ext cx="889164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969"/>
                </a:solidFill>
                <a:latin typeface="Arial"/>
                <a:ea typeface="Arial"/>
              </a:rPr>
              <a:t>ШАБЛОН ДЛЯ РАЗРАБОТКИ ЭКСКУРСИИ </a:t>
            </a:r>
            <a:br>
              <a:rPr sz="3200"/>
            </a:br>
            <a:br>
              <a:rPr sz="2000"/>
            </a:b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1" name="TextBox 7"/>
          <p:cNvSpPr/>
          <p:nvPr/>
        </p:nvSpPr>
        <p:spPr>
          <a:xfrm>
            <a:off x="393840" y="1600200"/>
            <a:ext cx="835344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ac090"/>
                </a:solidFill>
                <a:latin typeface="Calibri"/>
              </a:rPr>
              <a:t>Данный шаблон разработан авторами-разработчиками компетенции «Организация экскурсионных услуг» для выполнения модуля В «Разработка экскурсионного продукта». Использование шаблона в личных целях, распространение, публикация в открытом доступе запрещены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ac090"/>
                </a:solidFill>
                <a:latin typeface="Calibri"/>
              </a:rPr>
              <a:t>В шаблоне подготовлены слайды, на которых размещены необходимые элементы для выполнения работ по модулю. Необходимо следовать инструкциям на слайдах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ac090"/>
                </a:solidFill>
                <a:latin typeface="Calibri"/>
              </a:rPr>
              <a:t>Изменение оформления шаблона и его элементов не допускается. </a:t>
            </a:r>
            <a:r>
              <a:rPr b="1" lang="ru-RU" sz="1400" spc="-1" strike="noStrike">
                <a:solidFill>
                  <a:srgbClr val="fac090"/>
                </a:solidFill>
                <a:latin typeface="Tw Cen MT"/>
              </a:rPr>
              <a:t>Работы всех участников выполняются в едином установленном шаблоне, что обеспечивает принцип равенства участников</a:t>
            </a:r>
            <a:r>
              <a:rPr b="1" lang="ru-RU" sz="1400" spc="-1" strike="noStrike">
                <a:solidFill>
                  <a:srgbClr val="fac090"/>
                </a:solidFill>
                <a:latin typeface="Calibri"/>
              </a:rPr>
              <a:t>. </a:t>
            </a:r>
            <a:r>
              <a:rPr b="1" lang="ru-RU" sz="1400" spc="-1" strike="noStrike">
                <a:solidFill>
                  <a:srgbClr val="fac090"/>
                </a:solidFill>
                <a:latin typeface="Tw Cen MT"/>
              </a:rPr>
              <a:t>Переработка шаблона может осуществляться только Менеджером компетенции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ac090"/>
                </a:solidFill>
                <a:latin typeface="Calibri"/>
              </a:rPr>
              <a:t>Для дублирования слайдов скопируйте необходимый исходный слайд шаблона в необходимом количестве (напр. при 3 объектах необходимо дважды скопировать исходный слайд по объекту)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ac090"/>
                </a:solidFill>
                <a:latin typeface="Calibri"/>
              </a:rPr>
              <a:t>В заполненном участником шаблоне текущий слайд удаляется, т.е. участник начинает работу со слайда №1 «Титульный лист»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TextBox 4"/>
          <p:cNvSpPr/>
          <p:nvPr/>
        </p:nvSpPr>
        <p:spPr>
          <a:xfrm>
            <a:off x="2700360" y="123048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нструкция по работе с шаблоном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TextBox 3"/>
          <p:cNvSpPr/>
          <p:nvPr/>
        </p:nvSpPr>
        <p:spPr>
          <a:xfrm>
            <a:off x="374760" y="5257800"/>
            <a:ext cx="8353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Авторы-разработчики шаблона: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Клименко Т.И. – менеджер компетенции «Организация экскурсионных услуг»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Кандыба О.В. – заместитель менеджера компетенции «Организация экскурсионных услуг»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626760" y="2185560"/>
            <a:ext cx="8048520" cy="397980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ash"/>
            <a:miter/>
          </a:ln>
        </p:spPr>
        <p:txBody>
          <a:bodyPr anchor="t">
            <a:normAutofit/>
          </a:bodyPr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ставить текст  Вставить текст  Вставить текс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ставить текс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ставить текс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Box 5"/>
          <p:cNvSpPr/>
          <p:nvPr/>
        </p:nvSpPr>
        <p:spPr>
          <a:xfrm>
            <a:off x="468360" y="158904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Слайд № 1. Организационные мероприятия в начале экскурсии «_____________»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TextBox 7"/>
          <p:cNvSpPr/>
          <p:nvPr/>
        </p:nvSpPr>
        <p:spPr>
          <a:xfrm>
            <a:off x="-230040" y="6318360"/>
            <a:ext cx="41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ac090"/>
                </a:solidFill>
                <a:latin typeface="Calibri"/>
              </a:rPr>
              <a:t>Текст вставить в поле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357" name="Прямая со стрелкой 8"/>
          <p:cNvCxnSpPr/>
          <p:nvPr/>
        </p:nvCxnSpPr>
        <p:spPr>
          <a:xfrm flipV="1">
            <a:off x="1692000" y="3439440"/>
            <a:ext cx="1080" cy="287892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58" name="Заголовок 1"/>
          <p:cNvSpPr/>
          <p:nvPr/>
        </p:nvSpPr>
        <p:spPr>
          <a:xfrm>
            <a:off x="250920" y="404640"/>
            <a:ext cx="88930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969"/>
                </a:solidFill>
                <a:latin typeface="Arial"/>
                <a:ea typeface="Arial"/>
              </a:rPr>
              <a:t>ШАБЛОН ДЛЯ РАЗРАБОТКИ ЭКСКУРСИИ</a:t>
            </a:r>
            <a:br>
              <a:rPr sz="3200"/>
            </a:b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Box 11"/>
          <p:cNvSpPr/>
          <p:nvPr/>
        </p:nvSpPr>
        <p:spPr>
          <a:xfrm>
            <a:off x="1908000" y="1614600"/>
            <a:ext cx="63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Слайд № 2. Маршрут экскурсии «___________»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96640" y="2133360"/>
            <a:ext cx="25462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ПЕРЕЧЕНЬ ОБЪЕКТОВ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ПРИМЕ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1. Площадь Пречистенские воро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2. Государственный музей А.С. Пушки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3. Государственный музей Л.Н. Толстог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Заголовок 1"/>
          <p:cNvSpPr/>
          <p:nvPr/>
        </p:nvSpPr>
        <p:spPr>
          <a:xfrm>
            <a:off x="250920" y="404640"/>
            <a:ext cx="88930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969"/>
                </a:solidFill>
                <a:latin typeface="Arial"/>
                <a:ea typeface="Arial"/>
              </a:rPr>
              <a:t>ШАБЛОН ДЛЯ РАЗРАБОТКИ ЭКСКУРС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250920" y="5445000"/>
            <a:ext cx="8731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ВАЖНО! </a:t>
            </a:r>
            <a:r>
              <a:rPr b="1" lang="ru-RU" sz="1400" spc="-1" strike="noStrike">
                <a:solidFill>
                  <a:srgbClr val="fac090"/>
                </a:solidFill>
                <a:latin typeface="Calibri"/>
              </a:rPr>
              <a:t>При построении маршрута на Яндекс-картах нумерация объектов производится автоматически, при этом первый и последний объект остаются без номеров и обозначаются точками, в результате чего отображаемые номера объектов не соответствует их реальным порядковым номерам. </a:t>
            </a:r>
            <a:r>
              <a:rPr b="1" lang="ru-RU" sz="1400" spc="-1" strike="noStrike">
                <a:solidFill>
                  <a:srgbClr val="fac090"/>
                </a:solidFill>
                <a:latin typeface="Tw Cen MT"/>
              </a:rPr>
              <a:t>Поэтому в перечне объектов (</a:t>
            </a:r>
            <a:r>
              <a:rPr b="1" lang="ru-RU" sz="1400" spc="-1" strike="noStrike" u="sng">
                <a:solidFill>
                  <a:srgbClr val="fac090"/>
                </a:solidFill>
                <a:uFillTx/>
                <a:latin typeface="Tw Cen MT"/>
              </a:rPr>
              <a:t>в поле слева от карты</a:t>
            </a:r>
            <a:r>
              <a:rPr b="1" lang="ru-RU" sz="1400" spc="-1" strike="noStrike">
                <a:solidFill>
                  <a:srgbClr val="fac090"/>
                </a:solidFill>
                <a:latin typeface="Tw Cen MT"/>
              </a:rPr>
              <a:t>) необходимо проставить номера объектов самостоятельно в соответствии с их последовательностью на маршруте. На скрине карты  дополнительно проставлять соответствующие номера объектов не нужно!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Прямоугольник 17"/>
          <p:cNvSpPr/>
          <p:nvPr/>
        </p:nvSpPr>
        <p:spPr>
          <a:xfrm>
            <a:off x="3924360" y="2135160"/>
            <a:ext cx="4701960" cy="290052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крин яндекс-карты (или схема маршрута экскурсии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626760" y="2185560"/>
            <a:ext cx="8048520" cy="397980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ash"/>
            <a:miter/>
          </a:ln>
        </p:spPr>
        <p:txBody>
          <a:bodyPr anchor="t">
            <a:normAutofit/>
          </a:bodyPr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ставить текст  Вставить текст  Вставить текс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ставить текс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ставить текс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5"/>
          <p:cNvSpPr/>
          <p:nvPr/>
        </p:nvSpPr>
        <p:spPr>
          <a:xfrm>
            <a:off x="1116000" y="158904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Слайд № 3. Инструктаж по технике безопасности на экскурсии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TextBox 7"/>
          <p:cNvSpPr/>
          <p:nvPr/>
        </p:nvSpPr>
        <p:spPr>
          <a:xfrm>
            <a:off x="-230040" y="6318360"/>
            <a:ext cx="41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ac090"/>
                </a:solidFill>
                <a:latin typeface="Calibri"/>
              </a:rPr>
              <a:t>Текст вставить в поле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367" name="Прямая со стрелкой 8"/>
          <p:cNvCxnSpPr/>
          <p:nvPr/>
        </p:nvCxnSpPr>
        <p:spPr>
          <a:xfrm flipV="1">
            <a:off x="1692000" y="3439440"/>
            <a:ext cx="1080" cy="287892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68" name="Заголовок 1"/>
          <p:cNvSpPr/>
          <p:nvPr/>
        </p:nvSpPr>
        <p:spPr>
          <a:xfrm>
            <a:off x="250920" y="404640"/>
            <a:ext cx="88930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969"/>
                </a:solidFill>
                <a:latin typeface="Arial"/>
                <a:ea typeface="Arial"/>
              </a:rPr>
              <a:t>ШАБЛОН ДЛЯ РАЗРАБОТКИ ЭКСКУРСИИ</a:t>
            </a:r>
            <a:br>
              <a:rPr sz="3200"/>
            </a:b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Box 5"/>
          <p:cNvSpPr/>
          <p:nvPr/>
        </p:nvSpPr>
        <p:spPr>
          <a:xfrm>
            <a:off x="1763640" y="155736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Слайд № 4-8. Объект №_ «__Название объекта__»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TextBox 14"/>
          <p:cNvSpPr/>
          <p:nvPr/>
        </p:nvSpPr>
        <p:spPr>
          <a:xfrm>
            <a:off x="3276720" y="5059440"/>
            <a:ext cx="339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Подписать рисунок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Заголовок 1"/>
          <p:cNvSpPr/>
          <p:nvPr/>
        </p:nvSpPr>
        <p:spPr>
          <a:xfrm>
            <a:off x="250920" y="404640"/>
            <a:ext cx="88930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969"/>
                </a:solidFill>
                <a:latin typeface="Arial"/>
                <a:ea typeface="Arial"/>
              </a:rPr>
              <a:t>ШАБЛОН ДЛЯ РАЗРАБОТКИ ЭКСКУРС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Прямоугольник 1"/>
          <p:cNvSpPr/>
          <p:nvPr/>
        </p:nvSpPr>
        <p:spPr>
          <a:xfrm>
            <a:off x="3127320" y="2185920"/>
            <a:ext cx="3138480" cy="257184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ъект показа: рисунок/несколько рисунков при необходимости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Box 5"/>
          <p:cNvSpPr/>
          <p:nvPr/>
        </p:nvSpPr>
        <p:spPr>
          <a:xfrm>
            <a:off x="1763640" y="155736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Слайд № 4а-8а. Объект №_ «__Название объекта__»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Объект 2"/>
          <p:cNvSpPr/>
          <p:nvPr/>
        </p:nvSpPr>
        <p:spPr>
          <a:xfrm>
            <a:off x="108000" y="2057400"/>
            <a:ext cx="8640720" cy="369720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02760" indent="-3027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нформация об объекте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Вставить текст    Вставить текст   Вставить текст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Вставить текст    Вставить текст   Вставить текст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Вставить текст    Вставить текст   Вставить текст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..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Заголовок 1"/>
          <p:cNvSpPr/>
          <p:nvPr/>
        </p:nvSpPr>
        <p:spPr>
          <a:xfrm>
            <a:off x="250920" y="404640"/>
            <a:ext cx="88930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969"/>
                </a:solidFill>
                <a:latin typeface="Arial"/>
                <a:ea typeface="Arial"/>
              </a:rPr>
              <a:t>ШАБЛОН ДЛЯ РАЗРАБОТКИ ЭКСКУРС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TextBox 1"/>
          <p:cNvSpPr/>
          <p:nvPr/>
        </p:nvSpPr>
        <p:spPr>
          <a:xfrm>
            <a:off x="108000" y="602136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w Cen MT"/>
              </a:rPr>
              <a:t>Логический переход к следующему объекту…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626760" y="2185560"/>
            <a:ext cx="8048520" cy="397980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ash"/>
            <a:miter/>
          </a:ln>
        </p:spPr>
        <p:txBody>
          <a:bodyPr anchor="t">
            <a:normAutofit/>
          </a:bodyPr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ставить текст  Вставить текст  Вставить текс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ставить текс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ставить текс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5"/>
          <p:cNvSpPr/>
          <p:nvPr/>
        </p:nvSpPr>
        <p:spPr>
          <a:xfrm>
            <a:off x="1116000" y="158904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Слайд № 9. Организационные мероприятия в конце экскурсии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" name="TextBox 7"/>
          <p:cNvSpPr/>
          <p:nvPr/>
        </p:nvSpPr>
        <p:spPr>
          <a:xfrm>
            <a:off x="-230040" y="6318360"/>
            <a:ext cx="41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ac090"/>
                </a:solidFill>
                <a:latin typeface="Calibri"/>
              </a:rPr>
              <a:t>Текст вставить в поле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380" name="Прямая со стрелкой 8"/>
          <p:cNvCxnSpPr/>
          <p:nvPr/>
        </p:nvCxnSpPr>
        <p:spPr>
          <a:xfrm flipV="1">
            <a:off x="1692000" y="3439440"/>
            <a:ext cx="1080" cy="287892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81" name="Заголовок 1"/>
          <p:cNvSpPr/>
          <p:nvPr/>
        </p:nvSpPr>
        <p:spPr>
          <a:xfrm>
            <a:off x="250920" y="404640"/>
            <a:ext cx="88930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969"/>
                </a:solidFill>
                <a:latin typeface="Arial"/>
                <a:ea typeface="Arial"/>
              </a:rPr>
              <a:t>ШАБЛОН ДЛЯ РАЗРАБОТКИ ЭКСКУРСИИ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Box 5"/>
          <p:cNvSpPr/>
          <p:nvPr/>
        </p:nvSpPr>
        <p:spPr>
          <a:xfrm>
            <a:off x="1366920" y="1515960"/>
            <a:ext cx="71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Слайд № 10. Дополнительная информация (при необходимости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TextBox 6"/>
          <p:cNvSpPr/>
          <p:nvPr/>
        </p:nvSpPr>
        <p:spPr>
          <a:xfrm>
            <a:off x="250920" y="2060640"/>
            <a:ext cx="4249800" cy="435636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ac090"/>
                </a:solidFill>
                <a:latin typeface="Calibri"/>
              </a:rPr>
              <a:t>Вставить текст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TextBox 7"/>
          <p:cNvSpPr/>
          <p:nvPr/>
        </p:nvSpPr>
        <p:spPr>
          <a:xfrm>
            <a:off x="5219640" y="2084400"/>
            <a:ext cx="30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ac090"/>
                </a:solidFill>
                <a:latin typeface="Calibri"/>
              </a:rPr>
              <a:t>Вставить изображение на слайд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TextBox 8"/>
          <p:cNvSpPr/>
          <p:nvPr/>
        </p:nvSpPr>
        <p:spPr>
          <a:xfrm>
            <a:off x="4788000" y="2592360"/>
            <a:ext cx="39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Подписать рисунок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Заголовок 1"/>
          <p:cNvSpPr/>
          <p:nvPr/>
        </p:nvSpPr>
        <p:spPr>
          <a:xfrm>
            <a:off x="250920" y="404640"/>
            <a:ext cx="88930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969"/>
                </a:solidFill>
                <a:latin typeface="Arial"/>
                <a:ea typeface="Arial"/>
              </a:rPr>
              <a:t>ШАБЛОН ДЛЯ РАЗРАБОТКИ ЭКСКУРСИИ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893080" cy="75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969"/>
                </a:solidFill>
                <a:latin typeface="Arial"/>
                <a:ea typeface="Arial"/>
              </a:rPr>
              <a:t>ШАБЛОН ДЛЯ РАЗРАБОТКИ ЭКСКУРСИИ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8" name="TextBox 7"/>
          <p:cNvSpPr/>
          <p:nvPr/>
        </p:nvSpPr>
        <p:spPr>
          <a:xfrm>
            <a:off x="520560" y="1773360"/>
            <a:ext cx="8353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ac090"/>
                </a:solidFill>
                <a:latin typeface="Calibri"/>
              </a:rPr>
              <a:t>Последний слайд является слайд №10 с дополнительной информацией (заполняется при необходимости). </a:t>
            </a:r>
            <a:r>
              <a:rPr b="1" lang="ru-RU" sz="1600" spc="-1" strike="noStrike" u="sng">
                <a:solidFill>
                  <a:srgbClr val="fac090"/>
                </a:solidFill>
                <a:uFillTx/>
                <a:latin typeface="Calibri"/>
              </a:rPr>
              <a:t>Отдельный завершающий слайд не создается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ac090"/>
                </a:solidFill>
                <a:latin typeface="Calibri"/>
              </a:rPr>
              <a:t>По завершению работы в шаблоне данный слайд удаляется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TextBox 3"/>
          <p:cNvSpPr/>
          <p:nvPr/>
        </p:nvSpPr>
        <p:spPr>
          <a:xfrm>
            <a:off x="495360" y="4365720"/>
            <a:ext cx="8353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Авторы-разработчики шаблона: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Клименко Т.И. – менеджер компетенции «Организация экскурсионных услуг»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Кандыба О.В. – заместитель менеджера компетенции «Организация экскурсионных услуг»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03T05:46:10Z</dcterms:created>
  <dc:creator>Ольга</dc:creator>
  <dc:description/>
  <dc:language>en-US</dc:language>
  <cp:lastModifiedBy>Екатерина Карасева</cp:lastModifiedBy>
  <dcterms:modified xsi:type="dcterms:W3CDTF">2025-03-17T20:39:39Z</dcterms:modified>
  <cp:revision>117</cp:revision>
  <dc:subject/>
  <dc:title>разработкА контента аудиогида</dc:title>
</cp:coreProperties>
</file>