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D34-130D-4DF5-8CE5-4FC3CFCB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826-D32D-4ED0-AA81-7C5364E0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41EE4-960F-4B02-9F77-DC5F36CC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7B606-E0CC-457F-AE8B-D82308E2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E60E6-DF5F-47A2-B120-64436C67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1C05B-44E7-42E7-9D3D-325B2E8B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2B7BC-4602-44E8-A83A-C39C35B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2ABE3-71C3-476B-BC96-C881AE6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E6CE1-2164-4038-BE89-0FE3ABC8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DD084-C706-4DC7-AD37-369B6272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48343-CFD9-4D2E-B585-78D718B4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D82EE-A236-464E-AD2D-F2DB9A21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F81-3E4C-4B0E-A99C-13F36228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207EF-5E25-423E-B5FB-DAAE22DC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467FF-4253-430D-B21D-D707EAFD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B84C-A6EE-4CCC-8E55-923815F3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7D488-246B-4E35-B993-AE852BBD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2C96E-9E88-450A-A005-B26EE7B8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1453E-FE64-47BF-8771-012BAF51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7E4D2-C100-4B43-8672-79B113F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8EFD6-2251-41DD-A0D5-50840B1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E6AEC-0B2F-42A3-871D-C733EA16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878E4-093A-4944-8046-955B7A1C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5F5-1C49-4F97-9217-89C55FE0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3EBFF-66CA-4924-A71D-87EBFE2C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0AAA8-8F62-433E-893C-FDE37139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1F02A-C474-4EF6-AF07-F4304911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7D7DD-0ED2-4803-A164-E2301F4F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2ED88-4B15-4FEF-8992-DA1ABC26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2472-63EF-4D64-A58C-7C97A1D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30444-1EB4-48CD-AD46-4FFB84B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B5C64-DF5B-4EB9-9D88-1609C122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086B-4ADF-46E9-BC39-6AB404E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87E71-243F-4343-8949-58E781B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6565-976C-4986-9ECE-1A205C3F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2CB24-F025-459F-B82F-EE76B31C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79314-B9B6-48CC-A439-47DE0006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089EA-D630-482C-A280-F22A4C5B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7ECBC9-4B8E-4B64-957E-D8D8494A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553475-4E51-4E9F-B386-7EFAB1D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04EF86-0134-4FCA-8196-FD86CF41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303ADE-A19B-4DB3-8D7B-77E081E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677D36-3E56-415A-8B26-C37B4D3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23321F-C37A-4A2D-8067-7713A1C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B9C7CA-F313-43B4-9C80-F7B592E0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C5E2-FBA9-4E88-AEDD-6232340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6C40F2-27C7-4E8D-B447-F780467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E4AEA6-948A-4BDE-8771-3B4CE4E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86D9BA-F191-4A56-A846-B18E73DF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54966A-52C3-4048-B3E9-508CE521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752AA9-0061-497D-85B2-10564C54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72D478-D915-416F-B77E-B1BF0CA4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C81524-7820-4638-9F82-801840D8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21ECDB-0F3D-44D7-97D8-7EB4E368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F28C84-E60D-475C-9CC7-8229B16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1F2B69-2647-4A55-A2F7-C005FD19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E4A3-A1DD-4C15-8473-E365D57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A7D9EB-F7A5-4B08-917C-54BEC3EC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22E5F0-AC74-4D61-BB27-7C2C7A54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FBF397-B361-478E-A55A-42BC85F1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74A47F-3F5C-4099-A71D-23BE5B1C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C9F4DC-1AB9-47DA-8606-4FC67DB5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E8A418-35CB-42CB-8D84-ABC492AB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2E2174-47A1-42CB-9AE7-D8FA53E1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F8760B-BAED-4AC8-9853-67C87778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C7C8ED-00B1-45AA-A329-AFB04086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04CC80-769D-44C0-8229-7F219E1B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0955-C5F4-4BEC-A0AE-283DF0C7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8ED5BE-AB70-460F-A0C5-9225BC0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7A7E20-D47B-41C2-8BCF-563EA810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EAF090-B93B-46B8-9917-4E85ED99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3EF510-F5C9-4525-9A74-E6C8B324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AC418B-0220-4B19-AC19-67ED941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54CE8E-A024-4FF5-8A2F-D8216F6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0C71DF-D7FD-43C8-B91E-16A0B81B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E3415A-3AEB-4771-B77F-B726886F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3BC27E-BC5A-4ECB-A910-41B57CC9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295DF-6B99-4022-9D2F-0DD130F3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AA79-939D-4490-99B1-AD568EFB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2B2EF-B130-4BFF-91EB-CABDC7E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928FD-42D2-4C3E-AF09-1C9E0D62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895D3-5E8A-4A86-8014-A298484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FE51C-6EC8-4673-8B2B-785CA3E7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A470D-ED9D-4280-97A0-7DA901E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EA89B-5A04-4AD8-8F99-705A57E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7F030-11ED-402F-AB8F-188FC80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9DB4C-4301-41B2-92A5-861A1F0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8F54A-82DD-4571-AA33-8F77775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BDD64-0F43-430B-883B-610A2333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C3A2-8D4C-436A-9120-16525D4C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36C30-0E07-4255-A04E-4FF0865E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58897-4D2D-475C-BE2F-281861E5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075D4-1584-4328-AE35-979E9336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49D5D-C4D9-420C-B1D3-83DD748F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58EB5-D8B4-4B15-82FE-502B2514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61A75-0483-48D1-8AC3-9EF0CD26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9B9AD-193D-4F10-A336-745D867D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B7456-89DD-48D3-9010-4126D44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90643-BEF4-4459-9455-F0499D5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0F71D-7DF1-4A83-B2EE-77CEC42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4063-7FD9-4C1F-852E-0A999D0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12813-CD25-467F-99C2-1C272FA4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0BFAE-7CEC-46C6-AC3E-2347F6AF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B6B2B-A06C-4D86-8689-3A2EDF82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602CB-7B01-472E-9990-94A30011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6E0E2-1EFE-42C6-A8B1-01A5966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9758F-1381-4FAC-8DE9-FDE700FB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57699-232D-4A3E-AE97-C5A05C3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65792-66EE-4EBB-AE57-EB03222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A3CDB-1228-45A4-B34D-0B5D9FA0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C274E-A73D-4077-BE4D-CCB9297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2DE-EAB4-4351-93F8-FBAB2015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89EA-7706-45A8-8049-CF30F0B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763B8-41D2-4A6B-BE8C-09CF014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26B02-F09D-4010-82A4-29345B3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0031C-9BF0-4E86-ADD2-651952B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7D668-9755-4A35-8381-E6C930F8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016D4-2DD5-486D-BD2C-9B870984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FFDEC7-559B-4FD2-A251-9F0791F2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EA9E57-15E9-479E-93E2-ED060D4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63D4DF-9A1C-47D7-BA81-B05BAB04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77209C-4438-45B6-B7F5-900432D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D08744-13F0-40DE-BA8E-816506F3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E433-CC6E-409E-A068-BDF6F17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E639A9-AD1C-4964-9708-D72C3D7E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98AD45-A196-4B63-B60F-FAF6C5B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F57501-723C-4161-9902-5A30AC9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38A2F1-1432-4ED8-B45E-F2B391CF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B80C4B-75BB-4D7A-B62F-F49E1389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B24594-6905-4A0D-85C6-9ADDDCFD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DA64CA-FA7B-41CC-89B9-EA61D2B6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B49A2-6FC1-4DEF-B475-21A6EBE2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25967-969F-42F2-81F0-AC145DA1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B5F3C-F6A2-4102-81A9-299F18E0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C8B7-C373-469A-95FD-6D897466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6CB578-38A1-4C89-AADE-3BC6AA7E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C1306-8915-4D76-ACDD-4C018D0A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A3184-35FC-44D3-AC15-A4903103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3EE10-57CD-47DE-9681-4738608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C4658-7772-4C01-812B-38A7354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4495B-28AC-4D1E-8CED-9F2E3DD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5FCA2-3E10-4F8E-8228-38D8FD4A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E9DCB-68F8-4272-97A3-8AE0FA49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B8051-64B2-4201-8CA5-6671A912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9A618-E1E7-4245-8B6D-6930C419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0932-91A4-4F4C-9EE7-AE5DE8E4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8D0934-676E-4D35-97C7-31B9076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D6FB8-9F34-4B60-A231-ED1628E8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D7970-09A8-4BFB-8CC5-91EF12FE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FBC24-B2BF-4D4F-AEBD-235E3910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EC87E-95E1-4F90-A4BE-683BFD4E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665CB-E5E3-4BCE-AAE3-6D7E983D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90354-3062-4BBD-8218-432AEDD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ED2A9-00EF-4E73-B64C-AED1FC1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8ADC4-7A62-46DD-A77D-4420E24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61716-FF99-44F6-80C5-23629EE0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BED9-E6C6-4B8C-AA89-AEE67F39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70D79-0EC2-46EB-9E8B-2F8ADF08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B2D7-CC11-4961-98EB-AC901289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B16D-0BC0-4097-A7C3-F7134E0C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A40E-E44D-4214-9C82-11CC90A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F6F9-1C4D-48A1-B7FB-9DADA6DD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E0BF-0BCD-4620-9D7D-AB9034B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703-223C-4D42-9FE7-2955411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A3F1-B35D-4122-B982-1F21EC7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FDC3-552B-4930-971C-C8F4E7A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B8DC-34DB-46E2-8939-03BDAA2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BA44-10DE-4EDE-A2E3-5F40347E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C3E6-879A-4C74-9CC5-50553264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7FD2-19A1-4DFC-A1D1-A7AA4C52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99E2-5A7E-429B-B234-11DEF996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585F1-5795-4056-92CD-344C8EFA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B85ED-85F6-4636-BE88-44CBF79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79465-6158-424A-8D5A-AF0C1B9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3D7-7472-4841-B846-E2A8C51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2D3F7-E00D-4EB7-B8FF-ABA5F213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BACB7-EF0A-4E5F-B04F-C68A838F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7BF30-7F5A-455F-8C79-29B0A4F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81E72-BC8E-424F-B31B-E32C5B0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E0FC9-F4B9-4D37-AB7D-DB0445D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D021F-7D04-4716-A2B1-D83F746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4C0DB-D588-4A4D-9ACB-0251519B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34937-2057-4C3D-B5BE-8B4D2C4F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5A434-B18C-41CD-ABC6-35DA1C42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6C84B-61AD-412F-9BA5-4C7941D5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DAF-0E29-4EC2-96C7-7653B584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34785-756E-47BA-9912-EED1381A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D05AC-E24F-4427-BC69-1C89849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5B331-0C2D-4CE3-9818-6786DB5D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5B0E5-AAE2-4359-A530-F6323406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6FA3A-196C-4612-909F-440830FB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272BD-9880-453E-BEFD-E36A684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F8781-18F7-4A61-9635-8B4DF99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0300C-FE3C-45EC-91E3-BF307885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BEDE1-DEBE-4D9D-ADF7-0F782A78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16530-2882-4A97-980E-62C26AF3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3BA-285C-45EE-9D19-0A8FFBD4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BA015-0CC2-437F-B96B-18E0D86A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77EA7-D8A5-492D-BDEF-693DE500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07A7E-7E32-4367-9113-855522E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2F89F-9985-49C5-A51C-17F81A2D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6D121-3F82-4D13-AF28-E4013B94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EE4E9-731A-403E-9778-C8AA536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67B7E-6036-4FF0-927B-57C06820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2539D-8AD8-4258-98D1-4217834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876E0-68EA-41AB-B567-85FC3A23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5FE72-2C8D-4DD8-B902-69A34A7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213-E533-44A2-9621-C6DB04A0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6AA5F-8584-4806-B717-551949D5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D3A52-A117-47EF-838D-91B4C8A8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7F075-DF8F-4542-B19D-0EE8DCFA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90675-387A-4D31-BB4C-0562B49A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44933-AD50-4D2A-A585-0CFA5333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479C4-04A6-45D9-A8F4-C55B9822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19D7-DD4E-40EB-8C35-174C6C65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0365C-1AB2-4F38-A1F2-CFCF25CE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200D6-7A09-40D8-B436-0288C887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2AB4-D7C4-41FB-A6C0-5EAD339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BB3-3E98-42BA-93E9-A440176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0D5F1-E663-4317-A9F7-C216A46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4DD23-62C9-4412-949C-F310237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098E-671A-4D7F-8226-2394A07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95445-B1E4-461F-879F-B1AE9EAE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84E58-B5B7-432C-8D1C-0EB653A4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85232-14B3-4050-A951-7456F351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26FE8-D3ED-4C61-9F1B-BACC83FF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2BD48D-C3FC-41EF-A37E-118A5957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3E186-8564-487F-B818-8CB52FF4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CF36A7-71AE-4E9A-9BE3-E95C63A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5F1-AA32-4B67-891E-07B38E6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DDD3E-6B35-4CF8-9E18-A4CFE260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DEAB57-2B01-4B7D-BBA4-BD15B715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C8F02D-6213-4117-BDC9-D61DB69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FEFAF-47B8-4677-AFF0-89BD0E23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D408D-F975-484A-B415-000A099E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41A21-FC77-48DE-98A0-4DD3367F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28F84-F9C1-4B9E-9A91-4F70FA2D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B908C-E1B7-4FF2-B78F-88C58490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D970C-6770-4349-97CC-26D94081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23D84-E253-40F3-9F5D-E56BF1CD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A721-2480-43A8-8DAE-21D2C513FC6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D42-2C1C-4513-AADF-ECEAB885812E}" type="slidenum">
              <a:rPr b="1" lang="ru-RU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D3A7-70D3-436E-9377-2373D2AAD396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35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F57-4F97-4634-9514-8BE54AA72ACD}" type="slidenum">
              <a:rPr b="1" lang="ru-RU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3C5C-AA3C-496D-BF3F-E867AC436300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4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C443-BF2B-4105-BC4B-A1DA37E294BF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2497-DDCA-4513-84C3-EA5A3A78D9CF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C7A5-188C-45AB-BAB1-B02FFFFC48A6}" type="slidenum">
              <a:rPr b="1" lang="ru-RU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DAD2-E3D7-412C-88BC-1512650C61DA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6914-8FE7-40C0-B2D6-890852A1BFEC}" type="slidenum">
              <a:rPr b="1" lang="ru-RU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5771-03F8-4DA6-B091-03BAE983A08F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33FD-22F3-4EB6-B6EA-8CF2B685FF1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2DB-243E-416D-A639-C7A32526BE8D}" type="slidenum">
              <a:rPr b="1" lang="ru-RU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FD48-7830-4BBA-8658-5FE9E80826F6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42B4-97CC-4D4A-8E51-AF09C52A9983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5152-923B-400D-AF01-9A45F427B2E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CE3D-E921-40BF-AE32-2C66902D2B7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77EF-41AA-4B08-9E5B-DA07D6F4E9DB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6BFE-C751-4276-BCB0-2F043F7A3A10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D045-6851-4280-9C83-FD2AE956708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8916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 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TextBox 7"/>
          <p:cNvSpPr/>
          <p:nvPr/>
        </p:nvSpPr>
        <p:spPr>
          <a:xfrm>
            <a:off x="0" y="160020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Данный шаблон разработан авторами-разработчиками компетенции «Организация экскурсионных услуг» для выполнения модуля Б «Организация экскурсий». Использование шаблона в личных целях, распространение, публикация в открытом доступе запрещены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В шаблоне подготовлены слайды, на которых размещены необходимые элементы для выполнения задания по модулю. Необходимо следовать инструкциям на слайдах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Изменение оформления шаблона и его элементов не допускается. </a:t>
            </a:r>
            <a:r>
              <a:rPr b="1" lang="ru-RU" sz="1600" spc="-1" strike="noStrike">
                <a:solidFill>
                  <a:srgbClr val="fac090"/>
                </a:solidFill>
                <a:latin typeface="Tw Cen MT"/>
              </a:rPr>
              <a:t>Работы всех участников выполняются в едином установленном шаблоне, что обеспечивает принцип равенства участников</a:t>
            </a: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fac090"/>
                </a:solidFill>
                <a:latin typeface="Tw Cen MT"/>
              </a:rPr>
              <a:t>Переработка шаблона может осуществляться только Менеджером компетенции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При работе со слайдами скопируйте необходимый исходный слайд шаблона в необходимом количестве (напр., для 3 объектов необходимо трижды скопировать исходный слайд по объекту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В заполненном участником шаблоне текущий слайд удаляется, т.е. участник начинает работу со слайда №1 «Титульный лист»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TextBox 4"/>
          <p:cNvSpPr/>
          <p:nvPr/>
        </p:nvSpPr>
        <p:spPr>
          <a:xfrm>
            <a:off x="2700360" y="12304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струкция по работе с шаблоно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TextBox 3"/>
          <p:cNvSpPr/>
          <p:nvPr/>
        </p:nvSpPr>
        <p:spPr>
          <a:xfrm>
            <a:off x="74520" y="6016680"/>
            <a:ext cx="91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Автор-разработчик шаблона: Клименко ТИ.,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менеджер компетенции «Организация экскурсионных услуг»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Box 5"/>
          <p:cNvSpPr/>
          <p:nvPr/>
        </p:nvSpPr>
        <p:spPr>
          <a:xfrm>
            <a:off x="239760" y="14968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9. Путевая информация об объекте № 2 «__Название объекта__»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(при дублировании слайда для визуализации материалов «портфеля экскурсовода» обозначать номера 9а, 9б, 9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Объект 2"/>
          <p:cNvSpPr/>
          <p:nvPr/>
        </p:nvSpPr>
        <p:spPr>
          <a:xfrm>
            <a:off x="536400" y="2637000"/>
            <a:ext cx="4899240" cy="410508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TextBox 11"/>
          <p:cNvSpPr/>
          <p:nvPr/>
        </p:nvSpPr>
        <p:spPr>
          <a:xfrm>
            <a:off x="5872320" y="5622840"/>
            <a:ext cx="234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Tw Cen MT"/>
              </a:rPr>
              <a:t>Место для аудио, после добавления аудиофайла появится значок. Значок разместить здесь – в правом нижнем углу слайда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TextBox 14"/>
          <p:cNvSpPr/>
          <p:nvPr/>
        </p:nvSpPr>
        <p:spPr>
          <a:xfrm>
            <a:off x="5824440" y="4791240"/>
            <a:ext cx="33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40" name="Рисунок 17" descr=""/>
          <p:cNvPicPr/>
          <p:nvPr/>
        </p:nvPicPr>
        <p:blipFill>
          <a:blip r:embed="rId1"/>
          <a:stretch/>
        </p:blipFill>
        <p:spPr>
          <a:xfrm>
            <a:off x="8217000" y="5335560"/>
            <a:ext cx="927000" cy="1035000"/>
          </a:xfrm>
          <a:prstGeom prst="rect">
            <a:avLst/>
          </a:prstGeom>
          <a:ln w="0">
            <a:noFill/>
          </a:ln>
        </p:spPr>
      </p:pic>
      <p:sp>
        <p:nvSpPr>
          <p:cNvPr id="941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Прямоугольник 1"/>
          <p:cNvSpPr/>
          <p:nvPr/>
        </p:nvSpPr>
        <p:spPr>
          <a:xfrm>
            <a:off x="5989680" y="2349360"/>
            <a:ext cx="2881440" cy="223524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5"/>
          <p:cNvSpPr/>
          <p:nvPr/>
        </p:nvSpPr>
        <p:spPr>
          <a:xfrm>
            <a:off x="403200" y="1506600"/>
            <a:ext cx="858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0. Путевая информация об объекте № 3 «__Название объекта__»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(при дублировании слайда для визуализации материалов «портфеля экскурсовода»  обозначать номера 10а, 10б, 10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Объект 2"/>
          <p:cNvSpPr/>
          <p:nvPr/>
        </p:nvSpPr>
        <p:spPr>
          <a:xfrm>
            <a:off x="826920" y="2781360"/>
            <a:ext cx="4997520" cy="396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TextBox 11"/>
          <p:cNvSpPr/>
          <p:nvPr/>
        </p:nvSpPr>
        <p:spPr>
          <a:xfrm>
            <a:off x="5872320" y="5622840"/>
            <a:ext cx="234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Tw Cen MT"/>
              </a:rPr>
              <a:t>Место для аудио, после добавления аудиофайла появится значок. Значок разместить здесь – в правом нижнем углу слайда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6" name="TextBox 14"/>
          <p:cNvSpPr/>
          <p:nvPr/>
        </p:nvSpPr>
        <p:spPr>
          <a:xfrm>
            <a:off x="5824440" y="4791240"/>
            <a:ext cx="33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47" name="Рисунок 17" descr=""/>
          <p:cNvPicPr/>
          <p:nvPr/>
        </p:nvPicPr>
        <p:blipFill>
          <a:blip r:embed="rId1"/>
          <a:stretch/>
        </p:blipFill>
        <p:spPr>
          <a:xfrm>
            <a:off x="8217000" y="5335560"/>
            <a:ext cx="927000" cy="1035000"/>
          </a:xfrm>
          <a:prstGeom prst="rect">
            <a:avLst/>
          </a:prstGeom>
          <a:ln w="0">
            <a:noFill/>
          </a:ln>
        </p:spPr>
      </p:pic>
      <p:sp>
        <p:nvSpPr>
          <p:cNvPr id="948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Прямоугольник 1"/>
          <p:cNvSpPr/>
          <p:nvPr/>
        </p:nvSpPr>
        <p:spPr>
          <a:xfrm>
            <a:off x="6006960" y="2349360"/>
            <a:ext cx="2881440" cy="223524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5"/>
          <p:cNvSpPr/>
          <p:nvPr/>
        </p:nvSpPr>
        <p:spPr>
          <a:xfrm>
            <a:off x="108000" y="15289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1. Информация о транспортных услугах (при дублировании слайда обозначать номера 11а, 11б, 11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468360" y="2440080"/>
            <a:ext cx="3744720" cy="3717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текст с пояснениями, ссылк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2" name="TextBox 7"/>
          <p:cNvSpPr/>
          <p:nvPr/>
        </p:nvSpPr>
        <p:spPr>
          <a:xfrm>
            <a:off x="5364000" y="244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изображение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3" name="TextBox 8"/>
          <p:cNvSpPr/>
          <p:nvPr/>
        </p:nvSpPr>
        <p:spPr>
          <a:xfrm>
            <a:off x="4932360" y="282564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5"/>
          <p:cNvSpPr/>
          <p:nvPr/>
        </p:nvSpPr>
        <p:spPr>
          <a:xfrm>
            <a:off x="108000" y="15289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2. Информация об услугах общественного питания (при дублировании слайда обозначать номера 12а, 12б, 12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468360" y="2440080"/>
            <a:ext cx="3744720" cy="3717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текст с пояснениями, ссылк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TextBox 7"/>
          <p:cNvSpPr/>
          <p:nvPr/>
        </p:nvSpPr>
        <p:spPr>
          <a:xfrm>
            <a:off x="5364000" y="244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изображение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8" name="TextBox 8"/>
          <p:cNvSpPr/>
          <p:nvPr/>
        </p:nvSpPr>
        <p:spPr>
          <a:xfrm>
            <a:off x="4932360" y="282564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Box 5"/>
          <p:cNvSpPr/>
          <p:nvPr/>
        </p:nvSpPr>
        <p:spPr>
          <a:xfrm>
            <a:off x="108000" y="15289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3. Информация о дополнительных объектах посещения (при дублировании слайда обозначать номера 13а, 13б, 13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1" name="TextBox 6"/>
          <p:cNvSpPr/>
          <p:nvPr/>
        </p:nvSpPr>
        <p:spPr>
          <a:xfrm>
            <a:off x="468360" y="2440080"/>
            <a:ext cx="3744720" cy="3717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текст с пояснениями, ссылки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2" name="TextBox 7"/>
          <p:cNvSpPr/>
          <p:nvPr/>
        </p:nvSpPr>
        <p:spPr>
          <a:xfrm>
            <a:off x="5364000" y="2440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Вставить изображение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TextBox 8"/>
          <p:cNvSpPr/>
          <p:nvPr/>
        </p:nvSpPr>
        <p:spPr>
          <a:xfrm>
            <a:off x="4932360" y="282564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4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6" name="TextBox 7"/>
          <p:cNvSpPr/>
          <p:nvPr/>
        </p:nvSpPr>
        <p:spPr>
          <a:xfrm>
            <a:off x="520560" y="177336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Последним слайдом может быть слайд № 14 с любой дополнительной информацией по теме задания (при необходимости). При его отсутствии о</a:t>
            </a:r>
            <a:r>
              <a:rPr b="1" lang="ru-RU" sz="1600" spc="-1" strike="noStrike" u="sng">
                <a:solidFill>
                  <a:srgbClr val="fac090"/>
                </a:solidFill>
                <a:uFillTx/>
                <a:latin typeface="Calibri"/>
              </a:rPr>
              <a:t>тдельный завершающий слайд не создается</a:t>
            </a: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. В этом случае по завершению работы в шаблоне данный слайд удаляется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108320" y="2196720"/>
            <a:ext cx="43372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зображение к экскур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3"/>
          <p:cNvSpPr/>
          <p:nvPr/>
        </p:nvSpPr>
        <p:spPr>
          <a:xfrm>
            <a:off x="230040" y="2093760"/>
            <a:ext cx="4034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звание экскурси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c090"/>
                </a:solidFill>
                <a:latin typeface="Calibri"/>
              </a:rPr>
              <a:t>вписать назв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TextBox 5"/>
          <p:cNvSpPr/>
          <p:nvPr/>
        </p:nvSpPr>
        <p:spPr>
          <a:xfrm>
            <a:off x="2867040" y="1636560"/>
            <a:ext cx="36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1. Титульный слайд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TextBox 7"/>
          <p:cNvSpPr/>
          <p:nvPr/>
        </p:nvSpPr>
        <p:spPr>
          <a:xfrm>
            <a:off x="1011240" y="5859360"/>
            <a:ext cx="77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Вставить изображени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85" name="Прямая со стрелкой 9"/>
          <p:cNvCxnSpPr/>
          <p:nvPr/>
        </p:nvCxnSpPr>
        <p:spPr>
          <a:xfrm flipV="1">
            <a:off x="4284360" y="4292640"/>
            <a:ext cx="1440360" cy="14403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86" name="TextBox 3"/>
          <p:cNvSpPr/>
          <p:nvPr/>
        </p:nvSpPr>
        <p:spPr>
          <a:xfrm>
            <a:off x="171360" y="4533840"/>
            <a:ext cx="403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звание компани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c090"/>
                </a:solidFill>
                <a:latin typeface="Calibri"/>
              </a:rPr>
              <a:t>вписать назв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87" name="Рисунок 1" descr=""/>
          <p:cNvPicPr/>
          <p:nvPr/>
        </p:nvPicPr>
        <p:blipFill>
          <a:blip r:embed="rId1"/>
          <a:stretch/>
        </p:blipFill>
        <p:spPr>
          <a:xfrm>
            <a:off x="7912080" y="5681520"/>
            <a:ext cx="927000" cy="10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68480" y="2282400"/>
            <a:ext cx="7176960" cy="360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txBody>
          <a:bodyPr anchor="t">
            <a:normAutofit/>
          </a:bodyPr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  Вставить текст  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ставить текс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5"/>
          <p:cNvSpPr/>
          <p:nvPr/>
        </p:nvSpPr>
        <p:spPr>
          <a:xfrm>
            <a:off x="395280" y="163656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2. Краткая информация об экскурсии (при дублировании слайда обозначать номера 2а, 2б, 2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TextBox 7"/>
          <p:cNvSpPr/>
          <p:nvPr/>
        </p:nvSpPr>
        <p:spPr>
          <a:xfrm>
            <a:off x="534960" y="6402240"/>
            <a:ext cx="41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c090"/>
                </a:solidFill>
                <a:latin typeface="Calibri"/>
              </a:rPr>
              <a:t>Текст вставить в пол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91" name="Прямая со стрелкой 8"/>
          <p:cNvCxnSpPr/>
          <p:nvPr/>
        </p:nvCxnSpPr>
        <p:spPr>
          <a:xfrm flipV="1">
            <a:off x="1763280" y="3141000"/>
            <a:ext cx="1080" cy="2878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93" name="Рисунок 3" descr=""/>
          <p:cNvPicPr/>
          <p:nvPr/>
        </p:nvPicPr>
        <p:blipFill>
          <a:blip r:embed="rId1"/>
          <a:stretch/>
        </p:blipFill>
        <p:spPr>
          <a:xfrm>
            <a:off x="7781760" y="5624640"/>
            <a:ext cx="9273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Box 11"/>
          <p:cNvSpPr/>
          <p:nvPr/>
        </p:nvSpPr>
        <p:spPr>
          <a:xfrm>
            <a:off x="115920" y="163656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3. Маршрут экскурсии (при дублировании слайда обозначать номера 3а, 3б, 3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79360" y="2420640"/>
            <a:ext cx="342432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ПЕРЕЧЕНЬ ОБЪЕКТОВ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М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. Площадь Пречистенские вор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2. Государственный музей А.С. Пушк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3. Государственный музей Л.Н. Толст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TextBox 7"/>
          <p:cNvSpPr/>
          <p:nvPr/>
        </p:nvSpPr>
        <p:spPr>
          <a:xfrm>
            <a:off x="250920" y="5445000"/>
            <a:ext cx="873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АЖНО! </a:t>
            </a: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При построении маршрута на Яндекс-картах нумерация объектов производится автоматически, при этом первый и последний объект остаются без номеров и обозначаются точками, в результате чего отображаемые номера объектов не соответствует их реальным порядковым номерам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Поэтому в перечне объектов (</a:t>
            </a:r>
            <a:r>
              <a:rPr b="1" lang="ru-RU" sz="1400" spc="-1" strike="noStrike" u="sng">
                <a:solidFill>
                  <a:srgbClr val="fac090"/>
                </a:solidFill>
                <a:uFillTx/>
                <a:latin typeface="Tw Cen MT"/>
              </a:rPr>
              <a:t>в поле слева от карты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) необходимо проставить номера объектов самостоятельно в соответствии с их последовательностью на маршруте. На скрине карты  дополнительно проставлять соответствующие номера объектов не нужно!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Прямоугольник 17"/>
          <p:cNvSpPr/>
          <p:nvPr/>
        </p:nvSpPr>
        <p:spPr>
          <a:xfrm>
            <a:off x="3995640" y="2282760"/>
            <a:ext cx="4702320" cy="29005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рин яндекс-карты (при невозможности отразить маршрут на яндекс-картах данное поле удаляется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Box 11"/>
          <p:cNvSpPr/>
          <p:nvPr/>
        </p:nvSpPr>
        <p:spPr>
          <a:xfrm>
            <a:off x="108000" y="1666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4. Организационные мероприятия в начале экскурсии  (при дублировании слайда обозначать номера 5а, 5б, 5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08000" y="2435040"/>
            <a:ext cx="352728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14"/>
          <p:cNvSpPr/>
          <p:nvPr/>
        </p:nvSpPr>
        <p:spPr>
          <a:xfrm>
            <a:off x="108000" y="5938920"/>
            <a:ext cx="30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Вставить тексты с организационными указаниями (последовательность- по ходу движения по маршруту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TextBox 17"/>
          <p:cNvSpPr/>
          <p:nvPr/>
        </p:nvSpPr>
        <p:spPr>
          <a:xfrm>
            <a:off x="4211640" y="6032520"/>
            <a:ext cx="45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Проставить на скрине карты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начки организационных указаний и </a:t>
            </a: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значения опасных зон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Прямоугольник 1"/>
          <p:cNvSpPr/>
          <p:nvPr/>
        </p:nvSpPr>
        <p:spPr>
          <a:xfrm>
            <a:off x="3851280" y="2544840"/>
            <a:ext cx="4702320" cy="29001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рин яндекс-карты с указанием пункта А (при невозможности отразить на карте – удали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05" name="Прямая со стрелкой 7"/>
          <p:cNvCxnSpPr/>
          <p:nvPr/>
        </p:nvCxnSpPr>
        <p:spPr>
          <a:xfrm flipV="1">
            <a:off x="1692000" y="4075920"/>
            <a:ext cx="1080" cy="1600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6" name="Прямая со стрелкой 10"/>
          <p:cNvCxnSpPr/>
          <p:nvPr/>
        </p:nvCxnSpPr>
        <p:spPr>
          <a:xfrm flipV="1">
            <a:off x="6443280" y="4431600"/>
            <a:ext cx="1080" cy="1600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11"/>
          <p:cNvSpPr/>
          <p:nvPr/>
        </p:nvSpPr>
        <p:spPr>
          <a:xfrm>
            <a:off x="193680" y="163656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5. Инструкция по правилам поведения на экскурсии (при дублировании слайда обозначать номера 4а, 4б, 4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93320" y="2282400"/>
            <a:ext cx="3946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ТЕКСТ ИНСТРУ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TextBox 7"/>
          <p:cNvSpPr/>
          <p:nvPr/>
        </p:nvSpPr>
        <p:spPr>
          <a:xfrm>
            <a:off x="250920" y="5445000"/>
            <a:ext cx="873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АЖНО! </a:t>
            </a:r>
            <a:r>
              <a:rPr b="1" lang="ru-RU" sz="1400" spc="-1" strike="noStrike">
                <a:solidFill>
                  <a:srgbClr val="fac090"/>
                </a:solidFill>
                <a:latin typeface="Calibri"/>
              </a:rPr>
              <a:t>При построении маршрута на Яндекс-картах нумерация объектов производится автоматически, при этом первый и последний объект остаются без номеров и обозначаются точками, в результате чего отображаемые номера объектов не соответствует их реальным порядковым номерам. 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Поэтому в перечне объектов (</a:t>
            </a:r>
            <a:r>
              <a:rPr b="1" lang="ru-RU" sz="1400" spc="-1" strike="noStrike" u="sng">
                <a:solidFill>
                  <a:srgbClr val="fac090"/>
                </a:solidFill>
                <a:uFillTx/>
                <a:latin typeface="Tw Cen MT"/>
              </a:rPr>
              <a:t>в поле слева от карты</a:t>
            </a:r>
            <a:r>
              <a:rPr b="1" lang="ru-RU" sz="1400" spc="-1" strike="noStrike">
                <a:solidFill>
                  <a:srgbClr val="fac090"/>
                </a:solidFill>
                <a:latin typeface="Tw Cen MT"/>
              </a:rPr>
              <a:t>) необходимо проставить номера объектов самостоятельно в соответствии с их последовательностью на маршруте. На скрине карты  дополнительно проставлять соответствующие номера объектов не нужно!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Прямоугольник 17"/>
          <p:cNvSpPr/>
          <p:nvPr/>
        </p:nvSpPr>
        <p:spPr>
          <a:xfrm>
            <a:off x="4210200" y="2320920"/>
            <a:ext cx="4701960" cy="29005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изуальные значки, отражающие содержание Инструкции (при отсутствии – удалить поле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11"/>
          <p:cNvSpPr/>
          <p:nvPr/>
        </p:nvSpPr>
        <p:spPr>
          <a:xfrm>
            <a:off x="108000" y="1666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6. Организационные мероприятия по ходу экскурсии  (при дублировании слайда обозначать номера 6а, 6б, 6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108000" y="2435040"/>
            <a:ext cx="352728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УНКТ 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. При переходе дороги в пункте А маршрута будьте внимательны и осторожны, соблюдайте правила дорожного движения и указания экскурсовода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2.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4"/>
          <p:cNvSpPr/>
          <p:nvPr/>
        </p:nvSpPr>
        <p:spPr>
          <a:xfrm>
            <a:off x="108000" y="5938920"/>
            <a:ext cx="30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Вставить тексты с организационными указаниями (последовательность- по ходу движения по маршруту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TextBox 17"/>
          <p:cNvSpPr/>
          <p:nvPr/>
        </p:nvSpPr>
        <p:spPr>
          <a:xfrm>
            <a:off x="4211640" y="6032520"/>
            <a:ext cx="45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Проставить на скрине карты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начки организационных указаний и </a:t>
            </a: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значения опасных зон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Прямоугольник 1"/>
          <p:cNvSpPr/>
          <p:nvPr/>
        </p:nvSpPr>
        <p:spPr>
          <a:xfrm>
            <a:off x="3851280" y="2544840"/>
            <a:ext cx="4702320" cy="29001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рин яндекс-карты с указанием пункта А (при невозможности отразить на карте – удали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18" name="Прямая со стрелкой 7"/>
          <p:cNvCxnSpPr/>
          <p:nvPr/>
        </p:nvCxnSpPr>
        <p:spPr>
          <a:xfrm flipV="1">
            <a:off x="1692000" y="4075920"/>
            <a:ext cx="1080" cy="1600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9" name="Прямая со стрелкой 10"/>
          <p:cNvCxnSpPr/>
          <p:nvPr/>
        </p:nvCxnSpPr>
        <p:spPr>
          <a:xfrm flipV="1">
            <a:off x="6443280" y="4431600"/>
            <a:ext cx="1080" cy="1600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Box 11"/>
          <p:cNvSpPr/>
          <p:nvPr/>
        </p:nvSpPr>
        <p:spPr>
          <a:xfrm>
            <a:off x="108000" y="1666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лайд № 7. Организационные мероприятия в конце экскурсии  (при дублировании слайда обозначать номера 7а, 7б, 7в и т.д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108000" y="2435040"/>
            <a:ext cx="352728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УНКТ 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. При переходе дороги в пункте А маршрута будьте внимательны и осторожны, соблюдайте правила дорожного движения и указания экскурсовода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2.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4"/>
          <p:cNvSpPr/>
          <p:nvPr/>
        </p:nvSpPr>
        <p:spPr>
          <a:xfrm>
            <a:off x="108000" y="5938920"/>
            <a:ext cx="30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Вставить тексты с организационными указаниями (последовательность- по ходу движения по маршруту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3" name="TextBox 17"/>
          <p:cNvSpPr/>
          <p:nvPr/>
        </p:nvSpPr>
        <p:spPr>
          <a:xfrm>
            <a:off x="4211640" y="6032520"/>
            <a:ext cx="45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Проставить на скрине карты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начки организационных указаний и </a:t>
            </a: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значения опасных зон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4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Прямоугольник 1"/>
          <p:cNvSpPr/>
          <p:nvPr/>
        </p:nvSpPr>
        <p:spPr>
          <a:xfrm>
            <a:off x="3851280" y="2544840"/>
            <a:ext cx="4702320" cy="29001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крин яндекс-карты с указанием пункта А (при невозможности отразить на карте – удали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26" name="Прямая со стрелкой 7"/>
          <p:cNvCxnSpPr/>
          <p:nvPr/>
        </p:nvCxnSpPr>
        <p:spPr>
          <a:xfrm flipV="1">
            <a:off x="1692000" y="4075920"/>
            <a:ext cx="1080" cy="1600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7" name="Прямая со стрелкой 10"/>
          <p:cNvCxnSpPr/>
          <p:nvPr/>
        </p:nvCxnSpPr>
        <p:spPr>
          <a:xfrm flipV="1">
            <a:off x="6443280" y="4431600"/>
            <a:ext cx="1080" cy="16009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Box 5"/>
          <p:cNvSpPr/>
          <p:nvPr/>
        </p:nvSpPr>
        <p:spPr>
          <a:xfrm>
            <a:off x="-1440" y="1538280"/>
            <a:ext cx="91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лайд № 8. Путевая информация об объекте №1 «__Название объекта________» (при дублировании слайда для визуализации материалов «портфеля экскурсовода» обозначать номера 8а, 8б, 8в и т.д.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Объект 2"/>
          <p:cNvSpPr/>
          <p:nvPr/>
        </p:nvSpPr>
        <p:spPr>
          <a:xfrm>
            <a:off x="395280" y="2421000"/>
            <a:ext cx="4824360" cy="39495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ставить текст    Вставить текст   Вставить текст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.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TextBox 11"/>
          <p:cNvSpPr/>
          <p:nvPr/>
        </p:nvSpPr>
        <p:spPr>
          <a:xfrm>
            <a:off x="5872320" y="5622840"/>
            <a:ext cx="234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Tw Cen MT"/>
              </a:rPr>
              <a:t>Место для аудио, после добавления аудиофайла появится значок. Значок разместить здесь – в правом нижнем углу слайда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TextBox 14"/>
          <p:cNvSpPr/>
          <p:nvPr/>
        </p:nvSpPr>
        <p:spPr>
          <a:xfrm>
            <a:off x="5824440" y="4791240"/>
            <a:ext cx="33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Подписать рисун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32" name="Рисунок 17" descr=""/>
          <p:cNvPicPr/>
          <p:nvPr/>
        </p:nvPicPr>
        <p:blipFill>
          <a:blip r:embed="rId1"/>
          <a:stretch/>
        </p:blipFill>
        <p:spPr>
          <a:xfrm>
            <a:off x="8217000" y="5335560"/>
            <a:ext cx="927000" cy="1035000"/>
          </a:xfrm>
          <a:prstGeom prst="rect">
            <a:avLst/>
          </a:prstGeom>
          <a:ln w="0">
            <a:noFill/>
          </a:ln>
        </p:spPr>
      </p:pic>
      <p:sp>
        <p:nvSpPr>
          <p:cNvPr id="933" name="Заголовок 1"/>
          <p:cNvSpPr/>
          <p:nvPr/>
        </p:nvSpPr>
        <p:spPr>
          <a:xfrm>
            <a:off x="250920" y="404640"/>
            <a:ext cx="889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ШАБЛОН ДЛЯ РАЗРАБОТКИ </a:t>
            </a:r>
            <a:br>
              <a:rPr sz="3200"/>
            </a:br>
            <a:r>
              <a:rPr b="1" lang="ru-RU" sz="3200" spc="-1" strike="noStrike">
                <a:solidFill>
                  <a:srgbClr val="ff6969"/>
                </a:solidFill>
                <a:latin typeface="Arial"/>
                <a:ea typeface="Arial"/>
              </a:rPr>
              <a:t>ПАПКИ ЭКСКУРСА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Прямоугольник 1"/>
          <p:cNvSpPr/>
          <p:nvPr/>
        </p:nvSpPr>
        <p:spPr>
          <a:xfrm>
            <a:off x="6006960" y="2349360"/>
            <a:ext cx="2881440" cy="223524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35" name="Рисунок 17" descr=""/>
          <p:cNvPicPr/>
          <p:nvPr/>
        </p:nvPicPr>
        <p:blipFill>
          <a:blip r:embed="rId2"/>
          <a:stretch/>
        </p:blipFill>
        <p:spPr>
          <a:xfrm>
            <a:off x="8369280" y="5487840"/>
            <a:ext cx="927000" cy="10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3T05:46:10Z</dcterms:created>
  <dc:creator>Ольга</dc:creator>
  <dc:description/>
  <dc:language>en-US</dc:language>
  <cp:lastModifiedBy>Екатерина Карасева</cp:lastModifiedBy>
  <dcterms:modified xsi:type="dcterms:W3CDTF">2025-03-17T16:35:42Z</dcterms:modified>
  <cp:revision>131</cp:revision>
  <dc:subject/>
  <dc:title>разработкА контента аудиогида</dc:title>
</cp:coreProperties>
</file>