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46F-FC3D-4F81-9E4E-85C8392C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209-BDE6-4EB6-A445-5B903028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221CE-4EFF-4597-84DE-9B7C5E4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C33CA-0FB5-439F-B40B-CC92372F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86BDF-0E81-4E62-8250-4130D65E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73114-304B-45F4-BD4B-8B66BD90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D2A2-A0A9-430F-9574-E661D1F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66E26-7494-482D-BB3B-F6DF0138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71AC8-09BD-4120-9F70-84CB1EB6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C2381-1A0A-4A4C-AE83-A4574981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EAB80-614B-49D7-9B6C-B36BD1FE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6249D-C03A-4198-836B-AE59FB1B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35F-C12A-4ACE-90BC-08B49D83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F0845-6DB6-4B74-911F-4007F283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A60BD-E805-4A11-AC5A-455D136C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3608F-CEDB-424F-9C93-E1485FC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94FFD-9F04-4AA5-B676-AE92B45D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AEBD0-BD28-4F2C-8FD0-98E7DB92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5034F-9402-4553-ADDA-393EB199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12881-79E9-4D22-9EAB-38E298B8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9BA61-D1B7-4CDB-92E7-CDB5235C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C17D8-F587-4BC4-B27E-12F5FCFC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AD114-0CA4-45E3-897C-14F7BDCB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7FC-5796-40BC-BA63-F61D0168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B36C8-A3D6-443D-9FFF-A49EB085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F5DEB-2CAE-419C-B009-8C1FA78F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4289C-EAF6-43DA-B134-6F680EFD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5B8D4-A124-405B-AEF1-6735B91B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BB99E-F7E7-4F9F-A3A1-34930428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4B0EE-92CF-44DD-A4F8-F148EA55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D5DFE-E2B4-44D2-B6EA-B67678E0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F1DC8-126A-4960-AA1B-153C917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2C6DF-6D26-4C6D-ABF1-14C72B18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5F5E4-E5D0-401D-8E70-20FD1C6F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C81C-F122-44AD-A26F-AC9FA55F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BDF1D-7189-46DD-965C-38EDF9D0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BCFC6-5E80-4F59-A7F7-59E25989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96B63-8AF3-4E91-8A04-16DC98E2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778EC2-1121-4546-8834-F735C6D1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9CDCC8-3E2F-4F27-A314-71551E4B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18F0C2-6221-4142-B020-6F2930EC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058097-9201-4043-A7D3-4A8F379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D20614-AF7B-4E3B-A54F-6F0AE06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5BFCCA-326E-4FBC-9266-674F92D3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7ACA63-EF70-43A9-842C-17A6648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69C2-77A0-44C8-A854-2D8E67F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8C092B-1966-4C6D-98CD-8F54BB8A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43AB3C-72CC-47C8-85A6-F5DBE8C1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04823D-3562-4BFF-B1FF-7F06FD7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CB89B9-62A7-4FE2-A733-DE3B0E31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990A43-E898-4C40-AA2E-F0A34338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14B2A6-41CE-4BED-BEBA-A20351CE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6035E3-2F88-489D-9C52-A3C07829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C186AD-33A3-49DA-AC09-0B8975B8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5174CA-BFBD-46DF-BBFD-F2E742E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AECD2D-6768-45A4-93CC-267A4F60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6F93-FC31-4B48-B03C-D4208112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9BEA10-5C06-4085-94B5-2EE6B6B6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7CA998-FA32-4DD0-A265-4E3E0B2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65F305-4C34-4FF9-B033-5EE2725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A2F30F-346F-4D5D-B621-DBF661E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02E7E3-EB96-40CE-B2FB-B6871A4B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6C3B62-3194-4DBE-A77E-9D1A1319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318C62-A1D4-4BA1-807A-8AB50FD6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B917E5-3F68-4C03-9A89-D4D5AE2A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4740C9-B98A-454A-A2E4-D69F4F43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D24618-4B0A-431C-8D40-3A0BF3ED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7CD8-75E0-43BF-ADBA-D3359518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6A0FCC-CF9B-40A5-A9E4-B3BC6B02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A2DB60-E808-4DA6-907F-9EEA460C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081A23-4F33-4B6D-80FC-9FAEB692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D5E413-6FD8-4D43-8C8D-E716281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91DDA2-A9EC-44E0-A90D-D9C3689A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D56EED-DBAD-4BE5-81F7-E22909AA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048C91-A944-49DD-AAC9-29FFEB6A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40C5D1-6517-480E-A85F-6063D073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264FDB-CF6D-4046-A753-A994A20D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434DA-99F3-4379-A3F1-C62D638F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8D50-3705-4E70-9D40-D03F9D9B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50B86-5C36-41CD-968A-1127D41B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6644D-76D8-420F-BE96-D986006A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B87D1-2BD8-4BAD-9BBD-F1C8B42C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27F29-A9B5-4A74-9FE3-D570977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67ACF-03B8-416E-9E49-71AAC381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78DC8-51DB-4665-BED3-EB04AB5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51978-888D-4881-B3BB-0327107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B73F3-515F-48DA-B757-32B841D3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E7D30-8819-4E78-9E6C-1589F949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DCDF7-52D2-49D9-8478-0A384320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B5F9-0AC6-4259-9539-5DBE595A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8D7DC-D7D8-4280-9FDF-B9121766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6A241-8B32-49A7-A1A7-F3DFD3B6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92786-A2FA-4695-8973-F1329ADA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0ABCE-8E71-4AF1-9E8F-679AC638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7CDA5-7960-4FB9-BFF6-AF30006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1BB1A-77B9-4620-B75C-DDAD5E0D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B3FF6-82CA-4ABC-AE66-BEB4F629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5893E-BA37-4C13-9DA2-4758356C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63962-08F6-48EB-91FA-5833DF66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795B2-4B20-47D9-ADA5-3A8F1E4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58D5-9C01-4ABE-A832-68320C81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5B33F-9DE2-4523-A6DD-1DB2025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28C6A-2E14-45A5-B2E2-CDE41715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3A8C9-58AC-40CC-B998-332ABABB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2B3190-DD2E-4D35-812F-51217E02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60D76-AFB3-4311-A394-EC9F9581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B426F-67F5-4108-B215-0CDCB498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8F93D-5140-49EA-9D87-0688E60A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0D1F0-681E-4CEE-80A7-5D753C6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B4F102-91A6-4C20-B8DF-27503D79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74F90-6C82-44C5-8782-FA28C3DF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AF4-3A98-410E-A8E9-A0D534F2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72A3-0D1F-47EF-A22C-D211EAF3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B7474-6B8E-4306-BC62-628FC8A5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822E0-CCA7-4224-977F-FC68613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C9899-5E7F-46E4-965D-9CE4CA97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74052-AF4E-4D81-B5B1-CBF04EE0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3E22A-697B-4A7A-818F-14AF3572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517097-5C49-4450-8707-4EF2B830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18D0BF-7ABF-4942-BBA7-3D535C22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789784-8C55-4267-86A1-79B3835F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AA3B38C-9CC9-4467-9310-907FF32F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D07A48-3F3C-4E81-A670-CE30831B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7783-5CF4-43BB-8286-C9F12C45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7CE95E-620C-4C0E-B914-19A7144F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188A76-00F2-4DE9-AA8A-53BF5BAD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72B171-C311-4BE7-BD69-E176897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4E86F1-4068-4F66-BA19-109E70F6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96D9F1-03C1-474C-B9A4-AE6D84B9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79F3DF-F0C3-472D-B928-80DCB12C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5D0651-27D7-439A-9283-BBA91388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BC388C-06F1-4F8B-88B0-E9456B9C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C991C-BA4F-42C5-A79F-61EBC105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96C4E-6820-4049-9D7E-368F38B3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927F-7D3F-4BC5-8494-C19408D1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CE9AA-6C1D-4FCC-8A96-46F9F1D4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1F414-E518-449E-911F-9FF2476B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22FEF-3941-4A05-AC51-2AFACE7F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83860-F658-4DC3-BA92-82044835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5BC05-578E-4C39-AA78-E33CF6A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031417-B54F-4D7C-98EC-1EA0F9B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2621B-B859-4061-AEB6-185196FF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08D20D-5066-492F-9256-F2F36BC4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96A546-3894-4E1F-B4A0-41AB7BD1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900D5-2BCA-415D-BD2D-8977060C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60E-9ED8-4797-8C2F-798EC6C5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1C7F5D-CB74-4BC2-AB41-A58048A2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2D1BF-52D6-4907-BD55-5CF14EC9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1E96C-7DF2-46E9-B5E7-194B602E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2AF48C-0D1A-44CA-A304-E5C5945B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19531-BC07-4DFD-811D-08E557CD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E1A2E4-D3D6-4AD0-ABDB-DF882238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F0AAA-9D9C-496C-86D5-901CB66A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A17CF-EE5E-4543-B4E7-8A8FBBE2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BA149-0B18-4360-BC81-74D503C9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480B6-ED0F-4FE9-AB18-0CCBF11D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0A79-AF72-493B-8A09-367A5EA4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93914-1C75-47DD-82EC-9A498D53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63C4-F85C-4C03-863E-8FD89F15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A084-9232-4ACA-935F-6FA32E25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04C7-49E2-4D4F-8C69-C11B5DA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CA57-A52F-4B23-BE64-C063385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90C2-99B4-42E4-8E87-59B2071C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4D7-5119-4C39-90FD-BC656735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B5F31-1BBE-4068-AF6B-2333E31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0D5A-1789-4311-8F25-45412A77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B2F4-CC10-479A-A970-DDC1FE2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3062-59DE-4D56-AA30-42615494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D291-79F7-4656-BF14-884C5EAB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D632-CE75-42DD-BFA5-552C1619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FCE4-B1D9-4D67-8088-F941A268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D6AB2-0DDC-4B30-87FF-4C969A9C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F149D-95E4-4CC1-9B22-7CE6C6B7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AAD04-598D-49BA-B616-F478AE8F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CD3-CC87-418D-9B91-5F9E1BA1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FBFEA-B81D-4A09-B956-B932A2E2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A2950-FE22-4B9A-AEFD-91C6FB3B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F5BE6-92AA-40EC-8BFB-422E62B9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AEC17-EE63-40B3-975B-263E3BD0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A2A59-542C-4228-948F-659C1A42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67A26-2601-40E5-A4FC-53AFCBB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37390-D1E0-4B0E-B1A4-9CA0D425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0C146-8DFA-4D82-89E9-69E1FEBC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A0EC3-66B3-4037-B824-10416213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16209-8456-435E-BAAA-C188A06E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1A7-B1D0-41AB-99D2-0F1526A7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C21AF-BC3D-4669-9F9F-084D734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64CC6-80C7-441B-B25F-68450128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1F267-1AA3-4E23-9CDC-C67C7D9C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FDF63-850A-4A5A-9C16-F0E65094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AD1DA-B461-4E5A-8DE7-0E315FA0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25721-BDD4-4DB3-9B02-7A3AB2F7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4E165-7655-40B0-8C56-B96E2B45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CF7A1-5CCC-4A67-8B7D-B4F40BE2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C6B03-A119-40B6-8E4F-9BAAA55B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E48C9-1947-4D92-816F-8C89F8A5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978-63F9-49BD-92BD-26ECA522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19CDB-66C1-4035-831A-7EE71902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7A30B-6BBF-4A3D-96E7-FFF1F133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A64D4-1A26-4F58-9F1E-524486C0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38DE9-6017-44AB-BEAF-DE050A7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684FD-21CE-4F8A-828B-58ECF067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6E449-1AA1-4396-AA69-2237E77A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74A41-76E5-4F8E-8E3F-50EAA0D6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425E6-B2B6-42DB-B8CA-B34D321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FFEBB-FC83-44AF-9C3D-5BA020AB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B0688-3FEB-4773-8A04-442FC89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21E-3420-48A7-AA58-78F2C4C4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8E4F1-6A5F-4694-805E-41762F6D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E9604-B14F-4776-89CD-C70BB71E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FEF02-F7FD-4728-A39C-4C75BFE9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FCBF0-FBB3-4418-AA8F-26F12D77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CE66-E04F-4D0D-997B-881E59F8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15867-E80A-4663-9535-AD6811A4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41098-AAFD-456C-A05E-95B5C23D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AB093-C7E0-4136-9C44-11152F8C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8FA9E-964B-409E-B218-F91AF4C2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BAA2B-4125-4315-A2E8-215CA93D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2D8-37C0-4F43-8A97-45B7665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72FFA-463D-4A1E-BAE5-37B15CAA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567B0-4A19-4EB4-9D9B-12D4B4FD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ED0F-32A7-426D-B45D-3211B931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F246E-D416-4A72-B204-3D506B68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24FF5-F3EE-403A-BE21-D81208F1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CD818-C90D-45EE-A523-F78ECC14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FDF1CC-4007-4CE0-98A2-8197336C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E8815-6E9A-4234-8577-6F7FCF6B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B78547-7234-461B-BE81-746646B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C2EE8-E99F-452D-AB1A-1D39460F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8E2-8356-492C-9E63-319BFC7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7E5BF-6FD9-477C-AD82-76FB3EF3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EC172B-1604-4749-8499-87E8FCA0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88A79-F5A4-479A-8981-FCBF7D1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2E9B85-BA9F-4474-B497-06C84966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7A74E5-434B-4CEA-87AE-F9BCDB06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3E585C-DA19-4D5D-8FDF-3B57C82B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FCB0C7-15A1-4682-88FB-6C5D8300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84103-C3F8-4E80-B13D-1AFADFE9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0C9FD-1A7B-4A75-8FCA-1E9748F9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4BC55-B6FF-4DA9-9B78-842F3DE6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B636-8069-4968-9318-E885E3E67A6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Прямоугольник 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0FF5-630A-4E74-A31F-9FB6FB54306B}" type="slidenum">
              <a:rPr b="1" lang="ru-RU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E1EB-EFB2-4C86-BC15-CD41610E19D0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Прямоугольник 3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Прямоугольник 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35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13AE-2C28-49EB-B635-93AC8CDD70A3}" type="slidenum">
              <a:rPr b="1" lang="ru-RU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F83A-7785-48C3-94AF-882E5DC1D649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4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7792-28A4-4E96-82EB-BE0BAF245BC0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8E8B-CC6B-4782-A58B-BB430A45AC1A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4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4E4C-5429-4058-8B5F-45C6E53DFFE1}" type="slidenum">
              <a:rPr b="1" lang="ru-RU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B400-E89A-41FE-92EF-6D85FBCC4686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Прямоугольник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Прямоугольник 3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Прямоугольник 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6" name="Прямоугольник 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1C73-58AC-4E74-931C-4C14D5AA45AE}" type="slidenum">
              <a:rPr b="1" lang="ru-RU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B90A-BD5B-4733-B8EB-89BEAACD252F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DA73-E2B4-4159-8AE9-FFFF2920373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Прямоугольник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3" name="Прямоугольник 3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4" name="Прямоугольник 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A047-96EC-4DD9-9FD8-69823DC4F417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97CD-AB51-484A-B3EF-598C0F98EDBC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0BEF-8236-4D8A-986C-E189E55125A9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0E48-917A-4448-AF36-7B4EF0DE4D7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26CA-3B0B-4A9F-BA99-566D549BC20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C99-8895-45B9-A062-43958E2C1022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Прямоугольник 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7A29-E3E1-4BF5-93AF-4D669C73B93E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Прямоугольник 3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Прямоугольник 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A83-EFE7-417C-A3CF-4C1B9048FC9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8916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МАКЕТА АУДИОГИДА 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7" name="TextBox 7"/>
          <p:cNvSpPr/>
          <p:nvPr/>
        </p:nvSpPr>
        <p:spPr>
          <a:xfrm>
            <a:off x="393840" y="1600200"/>
            <a:ext cx="83534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Данный шаблон разработан авторами-разработчиками компетенции «Организация экскурсионных услуг» для одного из вариантов выполнения модуля Б «Разработка аудиогида». Использование шаблона в личных целях, распространение, публикация в открытом доступе запрещены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 шаблоне подготовлены слайды, на которых размещены необходимые элементы для выполнения работ по модулю. Необходимо следовать инструкциям на слайдах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Изменение оформления шаблона и его элементов не допускается. 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Работы всех участников выполняются в едином установленном шаблоне, что обеспечивает принцип равенства участников</a:t>
            </a: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Переработка шаблона может осуществляться только Менеджером компетенции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Для работы со слайдами по триггер-зонам и навигационным подсказкам, слайдами по объектам, слайдами с дополнительными иллюстрациями скопируйте необходимый исходный слайд шаблона в необходимом количестве (напр. при 4 объектах необходимо трижды скопировать исходный слайд по объекту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 заполненном участником шаблоне текущий слайд удаляется, т.е. участник начинает работу со слайда №1 «Титульный лист»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8" name="TextBox 4"/>
          <p:cNvSpPr/>
          <p:nvPr/>
        </p:nvSpPr>
        <p:spPr>
          <a:xfrm>
            <a:off x="2700360" y="12304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струкция по работе с шаблоно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TextBox 3"/>
          <p:cNvSpPr/>
          <p:nvPr/>
        </p:nvSpPr>
        <p:spPr>
          <a:xfrm>
            <a:off x="393840" y="56181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вторы-разработчики шаблона: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лименко Т.И. – менеджер компетенции «Организация экскурсионных услуг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андыба О.В. – заместитель менеджера компетенции «Организация экскурсионных услуг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МАКЕТА АУДИОГИДА 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422600" y="2133360"/>
            <a:ext cx="43372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Изображение к аудиоги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3"/>
          <p:cNvSpPr/>
          <p:nvPr/>
        </p:nvSpPr>
        <p:spPr>
          <a:xfrm>
            <a:off x="250920" y="2997360"/>
            <a:ext cx="403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звание аудиогид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c090"/>
                </a:solidFill>
                <a:latin typeface="Calibri"/>
              </a:rPr>
              <a:t>вписать назв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TextBox 5"/>
          <p:cNvSpPr/>
          <p:nvPr/>
        </p:nvSpPr>
        <p:spPr>
          <a:xfrm>
            <a:off x="2867040" y="1636560"/>
            <a:ext cx="36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1. Титульный слайд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4" name="TextBox 7"/>
          <p:cNvSpPr/>
          <p:nvPr/>
        </p:nvSpPr>
        <p:spPr>
          <a:xfrm>
            <a:off x="1011240" y="5859360"/>
            <a:ext cx="77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Вставить изображение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85" name="Прямая со стрелкой 9"/>
          <p:cNvCxnSpPr/>
          <p:nvPr/>
        </p:nvCxnSpPr>
        <p:spPr>
          <a:xfrm flipV="1">
            <a:off x="4284360" y="4292640"/>
            <a:ext cx="1440360" cy="14403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1071720" y="2195280"/>
            <a:ext cx="7176960" cy="360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txBody>
          <a:bodyPr anchor="t">
            <a:normAutofit/>
          </a:bodyPr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  Вставить текст  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"/>
          <p:cNvSpPr/>
          <p:nvPr/>
        </p:nvSpPr>
        <p:spPr>
          <a:xfrm>
            <a:off x="4697280" y="525312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аудио, после чего появится значок. Значок разместить здесь – в правом нижнем углу слайда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TextBox 5"/>
          <p:cNvSpPr/>
          <p:nvPr/>
        </p:nvSpPr>
        <p:spPr>
          <a:xfrm>
            <a:off x="2627280" y="16365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2. Информация об аудиогид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9" name="TextBox 7"/>
          <p:cNvSpPr/>
          <p:nvPr/>
        </p:nvSpPr>
        <p:spPr>
          <a:xfrm>
            <a:off x="534960" y="6402240"/>
            <a:ext cx="41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Текст вставить в поле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90" name="Прямая со стрелкой 8"/>
          <p:cNvCxnSpPr/>
          <p:nvPr/>
        </p:nvCxnSpPr>
        <p:spPr>
          <a:xfrm flipV="1">
            <a:off x="1763280" y="3141000"/>
            <a:ext cx="1080" cy="2878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91" name="Прямая со стрелкой 12"/>
          <p:cNvCxnSpPr/>
          <p:nvPr/>
        </p:nvCxnSpPr>
        <p:spPr>
          <a:xfrm>
            <a:off x="7505640" y="6318000"/>
            <a:ext cx="596160" cy="108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92" name="Рисунок 15" descr=""/>
          <p:cNvPicPr/>
          <p:nvPr/>
        </p:nvPicPr>
        <p:blipFill>
          <a:blip r:embed="rId1"/>
          <a:stretch/>
        </p:blipFill>
        <p:spPr>
          <a:xfrm>
            <a:off x="8248680" y="5894280"/>
            <a:ext cx="758880" cy="847800"/>
          </a:xfrm>
          <a:prstGeom prst="rect">
            <a:avLst/>
          </a:prstGeom>
          <a:ln w="0">
            <a:noFill/>
          </a:ln>
        </p:spPr>
      </p:pic>
      <p:sp>
        <p:nvSpPr>
          <p:cNvPr id="893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МАКЕТА АУДИОГИДА 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Box 11"/>
          <p:cNvSpPr/>
          <p:nvPr/>
        </p:nvSpPr>
        <p:spPr>
          <a:xfrm>
            <a:off x="2627280" y="16365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3. Карта маршру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296640" y="2133360"/>
            <a:ext cx="25462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ПЕРЕЧЕНЬ ОБЪЕКТОВ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МЕ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. Площадь Пречистенские вор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2. Государственный музей А.С. Пушк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3. Государственный музей Л.Н. Толст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МАКЕТА АУДИОГИД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TextBox 7"/>
          <p:cNvSpPr/>
          <p:nvPr/>
        </p:nvSpPr>
        <p:spPr>
          <a:xfrm>
            <a:off x="250920" y="5445000"/>
            <a:ext cx="873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АЖНО! </a:t>
            </a: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При построении маршрута на Яндекс-картах нумерация объектов производится автоматически, при этом первый и последний объект остаются без номеров и обозначаются точками, в результате чего отображаемые номера объектов не соответствует их реальным порядковым номерам. 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Поэтому в перечне объектов (</a:t>
            </a:r>
            <a:r>
              <a:rPr b="1" lang="ru-RU" sz="1400" spc="-1" strike="noStrike" u="sng">
                <a:solidFill>
                  <a:srgbClr val="fac090"/>
                </a:solidFill>
                <a:uFillTx/>
                <a:latin typeface="Tw Cen MT"/>
              </a:rPr>
              <a:t>в поле слева от карты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) необходимо проставить номера объектов самостоятельно в соответствии с их последовательностью на маршруте. На скрине карты  дополнительно проставлять соответствующие номера объектов не нужно!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Прямоугольник 17"/>
          <p:cNvSpPr/>
          <p:nvPr/>
        </p:nvSpPr>
        <p:spPr>
          <a:xfrm>
            <a:off x="3924360" y="2135160"/>
            <a:ext cx="4701960" cy="29005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рин яндекс-карты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Box 11"/>
          <p:cNvSpPr/>
          <p:nvPr/>
        </p:nvSpPr>
        <p:spPr>
          <a:xfrm>
            <a:off x="1424160" y="16668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4-6. Триггер-зоны и навигационные подсказки по маршруту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107640" y="2435040"/>
            <a:ext cx="29876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МЕР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. Перейдите дорогу и двигайтесь прям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2. Перейдите пешеходный переход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3.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14"/>
          <p:cNvSpPr/>
          <p:nvPr/>
        </p:nvSpPr>
        <p:spPr>
          <a:xfrm>
            <a:off x="108000" y="5938920"/>
            <a:ext cx="30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Вставить тексты к навигационным подсказкам (последовательность подсказок по ходу движение по маршруту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TextBox 17"/>
          <p:cNvSpPr/>
          <p:nvPr/>
        </p:nvSpPr>
        <p:spPr>
          <a:xfrm>
            <a:off x="4211640" y="6032520"/>
            <a:ext cx="456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Проставить на скрине карты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начки навигационных подсказок</a:t>
            </a: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значения триггер-зон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МАКЕТА АУДИОГИД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Прямоугольник 1"/>
          <p:cNvSpPr/>
          <p:nvPr/>
        </p:nvSpPr>
        <p:spPr>
          <a:xfrm>
            <a:off x="3851280" y="2544840"/>
            <a:ext cx="4702320" cy="29001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рин яндекс-карты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Box 5"/>
          <p:cNvSpPr/>
          <p:nvPr/>
        </p:nvSpPr>
        <p:spPr>
          <a:xfrm>
            <a:off x="1763640" y="1557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7-10. Объект №_ «__Название объета__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Объект 2"/>
          <p:cNvSpPr/>
          <p:nvPr/>
        </p:nvSpPr>
        <p:spPr>
          <a:xfrm>
            <a:off x="108000" y="2057400"/>
            <a:ext cx="5540400" cy="468468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7" name="TextBox 11"/>
          <p:cNvSpPr/>
          <p:nvPr/>
        </p:nvSpPr>
        <p:spPr>
          <a:xfrm>
            <a:off x="5680080" y="5653080"/>
            <a:ext cx="198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После вставки аудио разместить значок здесь – в правом нижнем углу слайда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TextBox 14"/>
          <p:cNvSpPr/>
          <p:nvPr/>
        </p:nvSpPr>
        <p:spPr>
          <a:xfrm>
            <a:off x="5824440" y="4938840"/>
            <a:ext cx="33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909" name="Прямая со стрелкой 15"/>
          <p:cNvCxnSpPr/>
          <p:nvPr/>
        </p:nvCxnSpPr>
        <p:spPr>
          <a:xfrm>
            <a:off x="7667280" y="5853240"/>
            <a:ext cx="646920" cy="180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10" name="Рисунок 17" descr=""/>
          <p:cNvPicPr/>
          <p:nvPr/>
        </p:nvPicPr>
        <p:blipFill>
          <a:blip r:embed="rId1"/>
          <a:stretch/>
        </p:blipFill>
        <p:spPr>
          <a:xfrm>
            <a:off x="8217000" y="5335560"/>
            <a:ext cx="927000" cy="1035000"/>
          </a:xfrm>
          <a:prstGeom prst="rect">
            <a:avLst/>
          </a:prstGeom>
          <a:ln w="0">
            <a:noFill/>
          </a:ln>
        </p:spPr>
      </p:pic>
      <p:sp>
        <p:nvSpPr>
          <p:cNvPr id="911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МАКЕТА АУДИОГИД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Прямоугольник 1"/>
          <p:cNvSpPr/>
          <p:nvPr/>
        </p:nvSpPr>
        <p:spPr>
          <a:xfrm>
            <a:off x="6012000" y="2057400"/>
            <a:ext cx="2881080" cy="223524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исунок или фай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5"/>
          <p:cNvSpPr/>
          <p:nvPr/>
        </p:nvSpPr>
        <p:spPr>
          <a:xfrm>
            <a:off x="2124000" y="155736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7а-10а. Дополнительные иллюстраци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4" name="TextBox 11"/>
          <p:cNvSpPr/>
          <p:nvPr/>
        </p:nvSpPr>
        <p:spPr>
          <a:xfrm>
            <a:off x="34920" y="494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TextBox 6"/>
          <p:cNvSpPr/>
          <p:nvPr/>
        </p:nvSpPr>
        <p:spPr>
          <a:xfrm>
            <a:off x="468360" y="2440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изображение на слай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TextBox 7"/>
          <p:cNvSpPr/>
          <p:nvPr/>
        </p:nvSpPr>
        <p:spPr>
          <a:xfrm>
            <a:off x="5364000" y="2440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изображение на слай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4932360" y="494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8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МАКЕТА АУДИОГИД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МАКЕТА АУДИОГИДА 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0" name="TextBox 7"/>
          <p:cNvSpPr/>
          <p:nvPr/>
        </p:nvSpPr>
        <p:spPr>
          <a:xfrm>
            <a:off x="520560" y="1773360"/>
            <a:ext cx="83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Последний слайд является слайдом по последнему объекту либо слайдом с дополнительными изображениями по последнему из объектов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ac090"/>
                </a:solidFill>
                <a:uFillTx/>
                <a:latin typeface="Calibri"/>
              </a:rPr>
              <a:t>Отдельный завершающий слайд не создается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По завершению работы в шаблоне данный слайд удаляется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1" name="TextBox 3"/>
          <p:cNvSpPr/>
          <p:nvPr/>
        </p:nvSpPr>
        <p:spPr>
          <a:xfrm>
            <a:off x="495360" y="436572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вторы-разработчики шаблона: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лименко Т.И. – менеджер компетенции «Организация экскурсионных услуг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андыба О.В. – заместитель менеджера компетенции «Организация экскурсионных услуг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3T05:46:10Z</dcterms:created>
  <dc:creator>Ольга</dc:creator>
  <dc:description/>
  <dc:language>en-US</dc:language>
  <cp:lastModifiedBy>Роман</cp:lastModifiedBy>
  <dcterms:modified xsi:type="dcterms:W3CDTF">2025-03-22T11:00:08Z</dcterms:modified>
  <cp:revision>101</cp:revision>
  <dc:subject/>
  <dc:title>разработкА контента аудиогида</dc:title>
</cp:coreProperties>
</file>